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BED-EE78-4D9B-9E06-1426FC51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F5E-8A73-4312-AA43-4A57B0F6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58B-D843-4DE0-AEF5-FA70AC9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1BF-7C7B-41F9-BD34-9C01176F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144-6D69-453C-8865-26559397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3AE-C844-465A-9FB2-15521D3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030-2DAE-4093-90E4-8C31167A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716-30BA-4BD5-ABD0-3C794A5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5E64-39CA-4187-AAB1-AB67CAA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948-93C5-45FE-B941-086AD73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BA9C-3D21-4699-B3E6-2D5AC70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675-4DA6-4C07-BB4D-71299E55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7EC-DF62-4B3D-8F81-D16C63C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537-6EBA-4133-B5EE-EB457F3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314-87D9-4439-A5F8-031A005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690-ECDD-4EF0-9E4A-68EF3C61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8E5E-A3D2-4027-8AE5-54FC703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037-F7EC-4889-9671-61DB407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5AE-4117-427C-84B3-27C024B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AB1-40A6-48C2-ADCA-CA20A1D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152-DB67-4CF8-9A3F-55D8943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2E9-0AFD-4992-A850-23E0286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03B-04CF-4C58-A505-A3CEC40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8B5-4D5F-4D0E-BB9C-2295E86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0351-0E88-423E-92A0-26704DEE63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1E6-6B27-41F4-A4F7-9BA247E0BA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vow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cknowledgment, frank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vetai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t together with, so as to form a harmonious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broi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in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tran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from affection to dislike or en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i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f ideas between persons or parties of opposing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 Pract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5 words in a sentence that makes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Great Gatsby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scrap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inished turn in and pick up Gatsby puzz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h. 7 fo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w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ach word in a sentence if it doesn’t already have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This is the last week of the third quarter, so the last chance to bring up your grade if you need to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l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umed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nif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on in secrecy and concealment, secret, conc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ig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zzling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bun not showing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u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hidden, lie in am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6:10:30Z</dcterms:created>
  <dc:creator>rebecca</dc:creator>
  <dc:description/>
  <dc:language>en-US</dc:language>
  <cp:lastModifiedBy>rebecca</cp:lastModifiedBy>
  <dcterms:modified xsi:type="dcterms:W3CDTF">2009-03-06T16:38:43Z</dcterms:modified>
  <cp:revision>2</cp:revision>
  <dc:subject/>
  <dc:title>DOL</dc:title>
</cp:coreProperties>
</file>